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1AB6-5377-48AE-AC57-476E4C813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3A1F-9859-4312-9558-2B4961F22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E406-5ABB-4655-A530-DB1664B52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3ED8-DB58-4FBA-88CC-7BCF3EFAE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8EF3-653C-4739-8080-438D0E6F3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6F90-D10C-41B3-9B4D-113B4428C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1C57-61D0-400F-A3F6-CDFA3FC89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4B4F-27C3-4EF6-9E18-334DE1B56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5F0B-AC14-4C92-AA6E-4C06D111A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3147-15D1-4DE1-AA6F-796968052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DA6C-F718-4712-8B79-C31BAFD1B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7995-480B-4261-842C-C430AFB1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985CA-F236-4939-B5FD-EE2B0C85AEE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dfd293"/>
                </a:solidFill>
                <a:latin typeface="Arial"/>
              </a:rPr>
              <a:t>ROANOKE</a:t>
            </a:r>
            <a:endParaRPr b="0" lang="en-US" sz="96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52480" y="152280"/>
            <a:ext cx="568008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66760" y="609480"/>
            <a:ext cx="3744720" cy="5516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581280" y="1654200"/>
            <a:ext cx="525780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A New Settlemen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752480" y="1600200"/>
            <a:ext cx="5791320" cy="42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17 people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Gone without a trace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dfd293"/>
                </a:solidFill>
                <a:latin typeface="Franklin Gothic Medium"/>
                <a:ea typeface="MS PGothic"/>
              </a:rPr>
              <a:t>WHERE DID THEY GO?</a:t>
            </a:r>
            <a:endParaRPr b="0" lang="en-US" sz="96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082960" y="0"/>
            <a:ext cx="5333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00320" y="152280"/>
            <a:ext cx="504036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752480" y="304920"/>
            <a:ext cx="52578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4T03:37:51Z</dcterms:created>
  <dc:creator>sas</dc:creator>
  <dc:description/>
  <dc:language>en-US</dc:language>
  <cp:lastModifiedBy>sas</cp:lastModifiedBy>
  <dcterms:modified xsi:type="dcterms:W3CDTF">2008-04-22T09:13:22Z</dcterms:modified>
  <cp:revision>8</cp:revision>
  <dc:subject/>
  <dc:title>ROANOKE</dc:title>
</cp:coreProperties>
</file>